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869-C774-42A7-9161-34CC0521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157-B06B-40FA-ADC5-4E7530C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36D-1A3D-48AA-801C-9F13303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879-CC3C-437C-A841-BCF62FBF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973-BF78-4322-A2B1-6FFE144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BA2-1FFC-4EC4-A98B-8835AF8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E3E-2E41-40B8-AC49-62936C3B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3AD8-09B7-4A7B-BCAB-F571F9E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00B9-2636-4C20-967C-EFF12D7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BCB5-F988-4622-9E3E-0BD28983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BBA-EBF2-4CF1-8788-52D1A29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0EF-4FCE-410C-B26D-870D4EB6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B3AD-01AA-4936-81A1-EC670DC9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26E-1C3D-4EEB-A2C2-518F948C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9C1-2158-48DD-9419-C68000E3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E12B-AEFD-4077-9710-5C8A8E00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D0E1-8514-4DCF-9210-C75575A2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DBF-BCDF-4002-A88A-0AC3CC23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797-BBDA-4BA4-A244-DD3DC025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2AC-24A4-4A0A-961E-82063752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33A-2993-453E-80F1-9D7F1C62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86A-70A4-4AF2-8085-8A4BD2C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3D3-653A-470C-994B-2D43D01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3E8-2490-4E04-AAA6-6D458A1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128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C71A96AD-6ABB-4D14-844A-C128B4FD48AC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4"/>
          <p:cNvSpPr/>
          <p:nvPr/>
        </p:nvSpPr>
        <p:spPr>
          <a:xfrm>
            <a:off x="2590920" y="10210680"/>
            <a:ext cx="30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. www.printcutfol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4"/>
          <p:cNvSpPr/>
          <p:nvPr/>
        </p:nvSpPr>
        <p:spPr>
          <a:xfrm>
            <a:off x="304920" y="-2362320"/>
            <a:ext cx="71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 Jim Holland &amp; Gaby Kru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2590920" y="10210680"/>
            <a:ext cx="30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. www.printcutfold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"/>
          <p:cNvSpPr/>
          <p:nvPr/>
        </p:nvSpPr>
        <p:spPr>
          <a:xfrm>
            <a:off x="304920" y="-2362320"/>
            <a:ext cx="71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late © 2008 Jim Holland &amp; Gaby Kru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7772400" cy="7772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0" y="0"/>
            <a:ext cx="7772400" cy="777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0" y="0"/>
            <a:ext cx="7772400" cy="777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Right Arrow Callout 11"/>
          <p:cNvGrpSpPr/>
          <p:nvPr/>
        </p:nvGrpSpPr>
        <p:grpSpPr>
          <a:xfrm>
            <a:off x="-4048200" y="2182680"/>
            <a:ext cx="4029120" cy="4596120"/>
            <a:chOff x="-4048200" y="2182680"/>
            <a:chExt cx="4029120" cy="4596120"/>
          </a:xfrm>
        </p:grpSpPr>
        <p:pic>
          <p:nvPicPr>
            <p:cNvPr id="49" name="Right Arrow Callout 11" descr=""/>
            <p:cNvPicPr/>
            <p:nvPr/>
          </p:nvPicPr>
          <p:blipFill>
            <a:blip r:embed="rId2"/>
            <a:stretch/>
          </p:blipFill>
          <p:spPr>
            <a:xfrm>
              <a:off x="-4048200" y="2182680"/>
              <a:ext cx="4029120" cy="45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-3886200" y="2247840"/>
              <a:ext cx="247500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1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90 degrees to the right 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90 degrees to the righ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Right Arrow Callout 12"/>
          <p:cNvGrpSpPr/>
          <p:nvPr/>
        </p:nvGrpSpPr>
        <p:grpSpPr>
          <a:xfrm>
            <a:off x="7864560" y="2212920"/>
            <a:ext cx="4029120" cy="4565880"/>
            <a:chOff x="7864560" y="2212920"/>
            <a:chExt cx="4029120" cy="4565880"/>
          </a:xfrm>
        </p:grpSpPr>
        <p:pic>
          <p:nvPicPr>
            <p:cNvPr id="52" name="Right Arrow Callout 12" descr=""/>
            <p:cNvPicPr/>
            <p:nvPr/>
          </p:nvPicPr>
          <p:blipFill>
            <a:blip r:embed="rId3"/>
            <a:stretch/>
          </p:blipFill>
          <p:spPr>
            <a:xfrm>
              <a:off x="7864560" y="2212920"/>
              <a:ext cx="4029120" cy="45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259920" y="2247840"/>
              <a:ext cx="2475000" cy="44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3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90 degrees to the lef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90 degrees to the lef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ight Arrow Callout 13"/>
          <p:cNvGrpSpPr/>
          <p:nvPr/>
        </p:nvGrpSpPr>
        <p:grpSpPr>
          <a:xfrm>
            <a:off x="298440" y="-3157560"/>
            <a:ext cx="7072200" cy="3230640"/>
            <a:chOff x="298440" y="-3157560"/>
            <a:chExt cx="7072200" cy="3230640"/>
          </a:xfrm>
        </p:grpSpPr>
        <p:pic>
          <p:nvPicPr>
            <p:cNvPr id="55" name="Right Arrow Callout 13" descr=""/>
            <p:cNvPicPr/>
            <p:nvPr/>
          </p:nvPicPr>
          <p:blipFill>
            <a:blip r:embed="rId4"/>
            <a:stretch/>
          </p:blipFill>
          <p:spPr>
            <a:xfrm>
              <a:off x="298440" y="-3157560"/>
              <a:ext cx="70722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16200000">
              <a:off x="2797200" y="-5463720"/>
              <a:ext cx="217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b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Type your information in textbox #2 at the bottom of the pag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Move the textbox to this location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Next, rotate the textbox 180 degre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Insert and rotate clipart 180 degre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ight Arrow Callout 14"/>
          <p:cNvGrpSpPr/>
          <p:nvPr/>
        </p:nvGrpSpPr>
        <p:grpSpPr>
          <a:xfrm>
            <a:off x="-3365640" y="7254720"/>
            <a:ext cx="3389400" cy="3108600"/>
            <a:chOff x="-3365640" y="7254720"/>
            <a:chExt cx="3389400" cy="3108600"/>
          </a:xfrm>
        </p:grpSpPr>
        <p:pic>
          <p:nvPicPr>
            <p:cNvPr id="58" name="Right Arrow Callout 14" descr=""/>
            <p:cNvPicPr/>
            <p:nvPr/>
          </p:nvPicPr>
          <p:blipFill>
            <a:blip r:embed="rId5"/>
            <a:stretch/>
          </p:blipFill>
          <p:spPr>
            <a:xfrm>
              <a:off x="-3365640" y="7254720"/>
              <a:ext cx="3389400" cy="31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19891800">
              <a:off x="-2758680" y="7606800"/>
              <a:ext cx="193212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Fold the paper along the diagonal lines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Cut from the lower left corner to the center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Right Arrow Callout 15"/>
          <p:cNvGrpSpPr/>
          <p:nvPr/>
        </p:nvGrpSpPr>
        <p:grpSpPr>
          <a:xfrm>
            <a:off x="7791480" y="6797520"/>
            <a:ext cx="3998880" cy="2041560"/>
            <a:chOff x="7791480" y="6797520"/>
            <a:chExt cx="3998880" cy="2041560"/>
          </a:xfrm>
        </p:grpSpPr>
        <p:pic>
          <p:nvPicPr>
            <p:cNvPr id="61" name="Right Arrow Callout 15" descr=""/>
            <p:cNvPicPr/>
            <p:nvPr/>
          </p:nvPicPr>
          <p:blipFill>
            <a:blip r:embed="rId6"/>
            <a:stretch/>
          </p:blipFill>
          <p:spPr>
            <a:xfrm>
              <a:off x="7791480" y="6797520"/>
              <a:ext cx="399888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9209160" y="6858000"/>
              <a:ext cx="25257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Print your project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7720"/>
                  <a:tab algn="l" pos="2035080"/>
                  <a:tab algn="l" pos="3052800"/>
                  <a:tab algn="l" pos="4070520"/>
                  <a:tab algn="l" pos="5087880"/>
                  <a:tab algn="l" pos="6105600"/>
                  <a:tab algn="l" pos="7122960"/>
                  <a:tab algn="l" pos="8140680"/>
                  <a:tab algn="l" pos="9158400"/>
                  <a:tab algn="l" pos="1017576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</a:rPr>
                <a:t>Cut all the way across this line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16"/>
          <p:cNvSpPr/>
          <p:nvPr/>
        </p:nvSpPr>
        <p:spPr>
          <a:xfrm>
            <a:off x="-1143000" y="386568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8305920" y="386568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3581280" y="-1066680"/>
            <a:ext cx="609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9"/>
          <p:cNvSpPr/>
          <p:nvPr/>
        </p:nvSpPr>
        <p:spPr>
          <a:xfrm>
            <a:off x="8458200" y="7197840"/>
            <a:ext cx="609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-990720" y="7543800"/>
            <a:ext cx="60984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6600" spc="-1" strike="noStrike">
                <a:solidFill>
                  <a:srgbClr val="4f6228"/>
                </a:solidFill>
                <a:latin typeface="Calibri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2819520" y="5029200"/>
            <a:ext cx="241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ut from the lower le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ner to the center. Stop at the stop sig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ld this section behind section #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pe  or glue along s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 rot="18730200">
            <a:off x="330480" y="6993360"/>
            <a:ext cx="86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2112464.jpg"/>
          <p:cNvPicPr/>
          <p:nvPr/>
        </p:nvPicPr>
        <p:blipFill>
          <a:blip r:embed="rId7"/>
          <a:stretch/>
        </p:blipFill>
        <p:spPr>
          <a:xfrm rot="2610600">
            <a:off x="3730680" y="4041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4"/>
          <p:cNvSpPr/>
          <p:nvPr/>
        </p:nvSpPr>
        <p:spPr>
          <a:xfrm>
            <a:off x="-76320" y="7620120"/>
            <a:ext cx="8636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380880" y="7769160"/>
            <a:ext cx="36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ut all the way across this li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6"/>
          <p:cNvSpPr/>
          <p:nvPr/>
        </p:nvSpPr>
        <p:spPr>
          <a:xfrm flipV="1">
            <a:off x="-720" y="3885840"/>
            <a:ext cx="3886200" cy="3886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27"/>
          <p:cNvSpPr/>
          <p:nvPr/>
        </p:nvSpPr>
        <p:spPr>
          <a:xfrm>
            <a:off x="0" y="7772400"/>
            <a:ext cx="7772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8128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290680" indent="-2538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fld id="{2178A22F-02A1-4654-883A-DBAC65777EE0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533520" y="8229600"/>
            <a:ext cx="632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1-Triple click on this text and type your informa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33520" y="8805960"/>
            <a:ext cx="6324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2-Triple click on this text and type your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533520" y="9377280"/>
            <a:ext cx="6324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box #3-Triple click on this text and type your info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676520" y="7238880"/>
            <a:ext cx="4572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ple click and type your first and last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03:16:42Z</dcterms:created>
  <dc:creator>Copyright 2008: Jim Holland &amp; Gaby Krumm</dc:creator>
  <dc:description/>
  <dc:language>en-US</dc:language>
  <cp:lastModifiedBy>mwilliams</cp:lastModifiedBy>
  <dcterms:modified xsi:type="dcterms:W3CDTF">2008-09-17T20:25:28Z</dcterms:modified>
  <cp:revision>4</cp:revision>
  <dc:subject/>
  <dc:title>Slide 1</dc:title>
</cp:coreProperties>
</file>